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925-C3A6-4771-AD70-4627990C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54F-7F5A-4FA8-8AF2-75104C3B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D96-E548-4EA3-92EA-9D34C5BA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586-9910-4D85-8FE3-1F130255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BE9-FE4D-4518-BDF3-03772B12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0D5-C271-4662-B544-60AE8BDD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9A4-F4EB-47CF-B796-19D9FDA1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F42-9FD9-4D68-88D5-7F5CAE0E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C80-4A24-4657-A032-D8E691A0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C67-72B9-41CC-9703-80159E5C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EA8-BC82-4D36-A83D-956612B8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F03-0062-444F-BAC6-D0E71979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09B3-758A-4671-A22C-1B879E97A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biblegateway.com/passage/?search=Ephesians+5&amp;version=NKJV#fen-NKJV-29335d" TargetMode="External"/><Relationship Id="rId2" Type="http://schemas.openxmlformats.org/officeDocument/2006/relationships/hyperlink" Target="https://www.biblegateway.com/passage/?search=Ephesians+5&amp;version=NKJV#fen-NKJV-29336e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o and what is 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m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m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created them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2229120" cy="2047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Image result for male female"/>
          <p:cNvPicPr/>
          <p:nvPr/>
        </p:nvPicPr>
        <p:blipFill>
          <a:blip r:embed="rId2"/>
          <a:stretch/>
        </p:blipFill>
        <p:spPr>
          <a:xfrm>
            <a:off x="1908000" y="1989000"/>
            <a:ext cx="26575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e and Female Role models are heavily distort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ertising: Clichee of stupid male and clever 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 male behaviour frowned up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e identity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men are encouraged to seek out traditional masculine prof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al structural lines between male and female blur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osexuality an equal value cho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y life is encouraged and presented as normal within the educational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family is ridiculed and discouraged through the media and liberal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y life progressive – traditional family regre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ynical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rgia Guidestones – a credo to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n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Reduce the number of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od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 fruitful and multiply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ll the earth and subdue 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Image result for georgia guidestones"/>
          <p:cNvPicPr/>
          <p:nvPr/>
        </p:nvPicPr>
        <p:blipFill>
          <a:blip r:embed="rId1"/>
          <a:stretch/>
        </p:blipFill>
        <p:spPr>
          <a:xfrm>
            <a:off x="468360" y="2349360"/>
            <a:ext cx="5476680" cy="3210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Image result for georgia guidestones"/>
          <p:cNvPicPr/>
          <p:nvPr/>
        </p:nvPicPr>
        <p:blipFill>
          <a:blip r:embed="rId2"/>
          <a:stretch/>
        </p:blipFill>
        <p:spPr>
          <a:xfrm>
            <a:off x="5292720" y="4076640"/>
            <a:ext cx="3600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iblical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God created man in His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w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mage; in the image of God He created him; male and female He created them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is 1: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 Lord God formed man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the dust of the ground, and breathed into his nostrils the breath of life; and man became a living be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is 2: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 Lord God said,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not good that man should be alone; I will make him a helper comparable to him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b But for Adam there was not found a helper comparable to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si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 Lord God caused a deep sleep to fall on Adam, and he slept; and He took one of his ribs, and closed up the flesh in its place.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rib which the Lord God had taken from man He made into a woman, and He brought her to the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dam sa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now bone of my bon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lesh of my flesh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shall be called Woma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she was taken out of Ma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a man shall leave his father and mother and be joined to his wife, and they shall become one fle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y were both naked, the man and his wife, and were not asha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sum up Gender before the Fa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 was made male and female (2 genders not 63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ssidic concept of human wholeness i.e. being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 needed a helper – suggesting there was a need and Eve had something to fulfil this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was taken away from Adam and it became 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 shall leave father and mother and cleave to his wife (leave and clea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ill become one flesh – total unity betwee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both naked and it was ok - inti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Image result for Adam and eve in love"/>
          <p:cNvPicPr/>
          <p:nvPr/>
        </p:nvPicPr>
        <p:blipFill>
          <a:blip r:embed="rId1"/>
          <a:stretch/>
        </p:blipFill>
        <p:spPr>
          <a:xfrm>
            <a:off x="6443640" y="472428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588000" y="1268280"/>
            <a:ext cx="215280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der after the F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urse of the wom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greatly multiply your sorrow and your conception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n you shall bring forth children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desire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all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for your husband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e shall rule over you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der after the F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urse of the man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o Adam He said, “Because you have heeded the voice of your wife, and have eaten from the tree of which I commanded you, saying, ‘You shall not eat of it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sed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the ground for your sak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oil you shall eat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days of your life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horns and thistles it shall bring forth for you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you shall eat the herb of the field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weat of your face you shall eat bre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l you return to the groun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a great 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a great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make bad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make bad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62472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Testament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2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ves, submit to your own husbands, as to the Lord.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3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the husband is head of the wife, as also Christ is head of the church; and He is the Savior of the body.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4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fore, just as the church is subject to Christ, so 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the wives 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to their own husbands in everyth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5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usbands, love your wives, just as Christ also loved the church and gave Himself for her,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6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at He might sanctify and cleanse her with the washing of water by the word,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7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at He might present her to Himself a glorious church, not having spot or wrinkle or any such thing, but that she should be holy and without blemish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8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husbands ought to love their own wives as their own bodies; he who loves his wife loves himself.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9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no one ever hated his own flesh, but nourishes and cherishes it, just as the Lord 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the church.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0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we are members of His body,[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]of His flesh and of His bones.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1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For this reason a man shall leave his father and mother and be joined to his wife, and the two shall become one flesh.”[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]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2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is a great mystery, but I speak concerning Christ and the church. 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3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vertheless let each one of you in particular so love his own wife as himself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 let the wife 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that she respects 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he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husb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Image result for 63 genders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84036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58920" y="252360"/>
            <a:ext cx="6985080" cy="66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Image result for protected characteristics"/>
          <p:cNvPicPr/>
          <p:nvPr/>
        </p:nvPicPr>
        <p:blipFill>
          <a:blip r:embed="rId1"/>
          <a:stretch/>
        </p:blipFill>
        <p:spPr>
          <a:xfrm>
            <a:off x="1116000" y="189000"/>
            <a:ext cx="66960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ular concept of Gend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a choice and not determined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dy to be changed to minds perce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der flu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more clear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der not to define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normality is encouraged and protected by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-genderize” – going gender 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ological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 and XY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cases of XXY mostly displayed as 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the body but full male or female functionality can never be achie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llion cells in the body programmed as either male or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synthetic hormones and body will gravitate to programmed s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Image result for klinefelter syndrome"/>
          <p:cNvPicPr/>
          <p:nvPr/>
        </p:nvPicPr>
        <p:blipFill>
          <a:blip r:embed="rId1"/>
          <a:stretch/>
        </p:blipFill>
        <p:spPr>
          <a:xfrm>
            <a:off x="755640" y="0"/>
            <a:ext cx="74883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6T22:47:17Z</dcterms:created>
  <dc:creator>Mike PB New</dc:creator>
  <dc:description/>
  <dc:language>en-US</dc:language>
  <cp:lastModifiedBy>Mike PB New</cp:lastModifiedBy>
  <dcterms:modified xsi:type="dcterms:W3CDTF">2017-01-21T00:19:53Z</dcterms:modified>
  <cp:revision>7</cp:revision>
  <dc:subject/>
  <dc:title>Slide 1</dc:title>
</cp:coreProperties>
</file>