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9677-7D70-41AE-A5AF-5D1D3A8FE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D459-28E4-4C10-B059-FE3925ED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1A9F-7F57-464A-9CF0-41E52A6A0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0E4D-6C2C-44DA-9800-4C3EF5CF8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9E5D-4B52-4A7B-A2A9-703BC835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ABAA-20A1-4880-927B-1A5519CE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238A-5681-47EB-B91D-EB96ADD6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C6D0-D1A2-4FB1-9B99-4EFBB33E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ED7B-596A-4528-996E-7D6217D5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B699-CB09-4F4B-928C-6306A187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3F1D-E9DF-484D-A20D-FEA46443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FE51-D893-4562-AB49-C8C7AA98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735B-2D73-4B67-83C8-2AE123711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640" y="2707920"/>
            <a:ext cx="683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Repentance?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ian Basics – Part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Image result for repent"/>
          <p:cNvPicPr/>
          <p:nvPr/>
        </p:nvPicPr>
        <p:blipFill>
          <a:blip r:embed="rId2"/>
          <a:stretch/>
        </p:blipFill>
        <p:spPr>
          <a:xfrm>
            <a:off x="468360" y="4437000"/>
            <a:ext cx="5905440" cy="1984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763640" y="260280"/>
            <a:ext cx="6696000" cy="2311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Image result for repent"/>
          <p:cNvPicPr/>
          <p:nvPr/>
        </p:nvPicPr>
        <p:blipFill>
          <a:blip r:embed="rId4"/>
          <a:stretch/>
        </p:blipFill>
        <p:spPr>
          <a:xfrm>
            <a:off x="6588000" y="4149720"/>
            <a:ext cx="223380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righteous fall 7 t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righteous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may fall seven tim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rise agai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wicked shall fall by calam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erbs 24: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95640" y="4149720"/>
            <a:ext cx="482436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ving Sacrifice - Rom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beseech you therefore, brethren, by the mercies of God, that you present your bodies a living sacrifice, holy, acceptable to God,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ich 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your reasonable service.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do not be conformed to this world, but be transformed by the renewing of your mind, that you may prove what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that good and acceptable and perfect will of G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pentance Coming to Chris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rd is not slack concerning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promise, as some count slackness, but is longsuffering toward us, not willing that any should perish but that all should come to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ce.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Peter 3: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9640" y="4365720"/>
            <a:ext cx="3311640" cy="217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Image result for repent"/>
          <p:cNvPicPr/>
          <p:nvPr/>
        </p:nvPicPr>
        <p:blipFill>
          <a:blip r:embed="rId2"/>
          <a:stretch/>
        </p:blipFill>
        <p:spPr>
          <a:xfrm>
            <a:off x="5003640" y="1197000"/>
            <a:ext cx="943200" cy="100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211640" y="4508640"/>
            <a:ext cx="453708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pentance – Correcting your way with Chr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ember therefore from where you have fallen; 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p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and do the first works, or else I will come to you quickly and remove your lampstand from its place—unless you 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p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. 2: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w I rejoice, not that you were made sorry, but that your sorrow led to 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p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ce. For you were made sorry in a godly manner, that you might suffer loss from us in nothing.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 Cor.7: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pen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urning arou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y from bad towards go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y from the “worldly” stuff towards the things of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NOT!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tying oneself endlessly for fail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pen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0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agell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lict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mise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nish onesel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e is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Related image"/>
          <p:cNvPicPr/>
          <p:nvPr/>
        </p:nvPicPr>
        <p:blipFill>
          <a:blip r:embed="rId1"/>
          <a:stretch/>
        </p:blipFill>
        <p:spPr>
          <a:xfrm>
            <a:off x="3851280" y="1341360"/>
            <a:ext cx="4897440" cy="3257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Image result for flagellants"/>
          <p:cNvPicPr/>
          <p:nvPr/>
        </p:nvPicPr>
        <p:blipFill>
          <a:blip r:embed="rId2"/>
          <a:stretch/>
        </p:blipFill>
        <p:spPr>
          <a:xfrm>
            <a:off x="3780000" y="4149720"/>
            <a:ext cx="285732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pentance = Pena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ict something bad on yourself for having done something 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 forfeit or some self inflicted punishment deal with your s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God require pain for s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Image result for penance cartoon"/>
          <p:cNvPicPr/>
          <p:nvPr/>
        </p:nvPicPr>
        <p:blipFill>
          <a:blip r:embed="rId1"/>
          <a:stretch/>
        </p:blipFill>
        <p:spPr>
          <a:xfrm>
            <a:off x="7164360" y="3284640"/>
            <a:ext cx="15112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pent in Hebrew and Gre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riginal Word: 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שׁוּב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nsliteration: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ub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honetic Spelling: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shoob)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hort Definition: to turn back,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riginal Word: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μετανοέω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nsliteration: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tanoeó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honetic Spelling: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met-an-o-eh'-o)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hort Definition: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pent, change my mind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finition: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pent, change my mind, change the inner man (particularly with reference to acceptance of the will of God), rep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Image result for repent"/>
          <p:cNvPicPr/>
          <p:nvPr/>
        </p:nvPicPr>
        <p:blipFill>
          <a:blip r:embed="rId1"/>
          <a:stretch/>
        </p:blipFill>
        <p:spPr>
          <a:xfrm>
            <a:off x="5580000" y="1916280"/>
            <a:ext cx="324000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glish Dictio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l or express sincere regret or remorse about one's wrongdoing or s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the Padre urged his listeners to repent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ynonym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l remorse for, regret, be sorry for, rue, reproach oneself for, be ashamed of, feel contrite about, wish that one had not done something; 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or think of (an action or omission) with deep regret or remo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Marian came to repent her hasty judgement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rcha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l regret or penitence ab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I repent me of all I did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wo Parts to Repentan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se that you were wrong and did w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away from the wrong way and do r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308720" y="522936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unger and Thirst for Righteousnes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essed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the poor in spiri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For theirs is the kingdom of heaven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essed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those who mour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For they shall be comforted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essed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the meek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For they shall inherit the earth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essed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those who hunger and thirst for righteousnes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For they shall be filled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essed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the merciful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For they shall obtain mercy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essed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the pure in hear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For they shall see God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essed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the peacemaker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For they shall be called sons of God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essed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those who are persecuted for righteousness’ sak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For theirs is the kingdom of heav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Image result for job bible"/>
          <p:cNvPicPr/>
          <p:nvPr/>
        </p:nvPicPr>
        <p:blipFill>
          <a:blip r:embed="rId1"/>
          <a:stretch/>
        </p:blipFill>
        <p:spPr>
          <a:xfrm>
            <a:off x="5651640" y="1844640"/>
            <a:ext cx="302400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ul’s Repen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l persecuted Christ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sus appeared to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repented and was persecuted him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Image result for road to damascus"/>
          <p:cNvPicPr/>
          <p:nvPr/>
        </p:nvPicPr>
        <p:blipFill>
          <a:blip r:embed="rId1"/>
          <a:stretch/>
        </p:blipFill>
        <p:spPr>
          <a:xfrm>
            <a:off x="3851280" y="1484280"/>
            <a:ext cx="487692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ob’s Repen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2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Job answered the Lord and sa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I know that You can do everything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at no purpose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f Yo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can be withheld from You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 asked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‘Who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this who hides counsel without knowledge?’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 I have uttered what I did not understand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gs too wonderful for me, which I did not know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n, please, and let me speak;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 said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‘I will question you, and you shall answer Me.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I have heard of You by the hearing of the ear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w my eye sees You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 I abhor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yself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repent in dust and ashe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Related image"/>
          <p:cNvPicPr/>
          <p:nvPr/>
        </p:nvPicPr>
        <p:blipFill>
          <a:blip r:embed="rId1"/>
          <a:stretch/>
        </p:blipFill>
        <p:spPr>
          <a:xfrm>
            <a:off x="6732720" y="115920"/>
            <a:ext cx="1796760" cy="2160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Image result for job bible"/>
          <p:cNvPicPr/>
          <p:nvPr/>
        </p:nvPicPr>
        <p:blipFill>
          <a:blip r:embed="rId2"/>
          <a:stretch/>
        </p:blipFill>
        <p:spPr>
          <a:xfrm>
            <a:off x="5292720" y="4797360"/>
            <a:ext cx="367344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9T17:07:12Z</dcterms:created>
  <dc:creator>Mike PB New</dc:creator>
  <dc:description/>
  <dc:language>en-US</dc:language>
  <cp:lastModifiedBy>Mike PB New</cp:lastModifiedBy>
  <dcterms:modified xsi:type="dcterms:W3CDTF">2017-02-10T19:05:03Z</dcterms:modified>
  <cp:revision>4</cp:revision>
  <dc:subject/>
  <dc:title>What is Repentance?</dc:title>
</cp:coreProperties>
</file>