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15E1-7B0B-4CEF-BFB0-643C6C386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A241-6FD0-45D0-98CD-FC76F8301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7FAE-AFDC-4188-9958-A11C6A806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B88F-DA2F-4E8A-8E9D-0293D2BA6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C0ED-DBD4-4720-93E6-94A7F5845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534F-705A-48F1-A681-E4EB213DF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8FE3-95DD-4515-B62A-12DC0E744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3AB0-F67A-4ED4-BEAA-F85336746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02A5-3051-48D3-AA83-B4453DE51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38F0-DA52-422C-89AA-6FD421F3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2A3B-EDBD-4B28-9772-E74501E6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A1BD-9371-4A9F-B11A-BC636296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DF82E-64E0-4120-A4C1-CB4890854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Sanctification?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ristian Basics Part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Image result for sanctification"/>
          <p:cNvPicPr/>
          <p:nvPr/>
        </p:nvPicPr>
        <p:blipFill>
          <a:blip r:embed="rId1"/>
          <a:stretch/>
        </p:blipFill>
        <p:spPr>
          <a:xfrm>
            <a:off x="250920" y="189000"/>
            <a:ext cx="3276360" cy="1844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227640" y="4076640"/>
            <a:ext cx="2735280" cy="2479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79280" y="2924280"/>
            <a:ext cx="1428840" cy="1600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1547640" y="4437000"/>
            <a:ext cx="3961080" cy="21909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179280" y="2924280"/>
            <a:ext cx="1428840" cy="1600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Image result for sanctification"/>
          <p:cNvPicPr/>
          <p:nvPr/>
        </p:nvPicPr>
        <p:blipFill>
          <a:blip r:embed="rId6"/>
          <a:stretch/>
        </p:blipFill>
        <p:spPr>
          <a:xfrm>
            <a:off x="4067280" y="260280"/>
            <a:ext cx="450036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8353440" cy="60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Image result for sanctification"/>
          <p:cNvPicPr/>
          <p:nvPr/>
        </p:nvPicPr>
        <p:blipFill>
          <a:blip r:embed="rId1"/>
          <a:stretch/>
        </p:blipFill>
        <p:spPr>
          <a:xfrm>
            <a:off x="179280" y="189000"/>
            <a:ext cx="8713800" cy="652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05T22:11:26Z</dcterms:created>
  <dc:creator>Mike PB New</dc:creator>
  <dc:description/>
  <dc:language>en-US</dc:language>
  <cp:lastModifiedBy>Mike PB New</cp:lastModifiedBy>
  <dcterms:modified xsi:type="dcterms:W3CDTF">2017-03-05T22:41:23Z</dcterms:modified>
  <cp:revision>2</cp:revision>
  <dc:subject/>
  <dc:title>What is Sanctification? Christian Basics Part 10</dc:title>
</cp:coreProperties>
</file>