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0.png" ContentType="image/png"/>
  <Override PartName="/ppt/media/image1.jpeg" ContentType="image/jpeg"/>
  <Override PartName="/ppt/media/image13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60B-26CA-4A83-89B0-581F7B01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1D7F-C98F-4C8A-9603-A5D5B250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7E2-EF5A-4B73-8D00-65298963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21B8-173C-4EFD-B08B-BD22D728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C442-F6D6-4695-90FB-30847D27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705-05E1-4C75-9453-894AFE2F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CF56-AA80-454F-A13A-394623B1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A92D-4886-4C9B-9C4F-B0D77BA0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CAD-702C-4A9F-8897-AFB44C8C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976F-6EC2-471C-8DE7-1902F940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846-E9D4-454F-91FF-0A2E0E11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F6D-1C49-402F-B91F-2362F791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765F-61C9-4311-AF08-51F43F959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7640" y="-360"/>
            <a:ext cx="446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ustification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tian Basics Part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Image result for bible justification"/>
          <p:cNvPicPr/>
          <p:nvPr/>
        </p:nvPicPr>
        <p:blipFill>
          <a:blip r:embed="rId1"/>
          <a:stretch/>
        </p:blipFill>
        <p:spPr>
          <a:xfrm>
            <a:off x="395280" y="33336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92360" y="4005360"/>
            <a:ext cx="5905440" cy="2442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Image result for his faith was credited to him as righteousness"/>
          <p:cNvPicPr/>
          <p:nvPr/>
        </p:nvPicPr>
        <p:blipFill>
          <a:blip r:embed="rId3"/>
          <a:stretch/>
        </p:blipFill>
        <p:spPr>
          <a:xfrm>
            <a:off x="4643280" y="1484280"/>
            <a:ext cx="37623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e believed in the Lord, and He accounted it to him for righteousness. (Genesis 15) (Romans 4:3) (James 2: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Image result for abraham the friend of god"/>
          <p:cNvPicPr/>
          <p:nvPr/>
        </p:nvPicPr>
        <p:blipFill>
          <a:blip r:embed="rId1"/>
          <a:stretch/>
        </p:blipFill>
        <p:spPr>
          <a:xfrm>
            <a:off x="900000" y="2924280"/>
            <a:ext cx="75596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stification through Fa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the just shall live by his faith. (Hab 2: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in it the righteousness of God is revealed from faith for faith,as it is written, “The righteous shall live by faith.”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omans 1: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Image result for justified by the law"/>
          <p:cNvPicPr/>
          <p:nvPr/>
        </p:nvPicPr>
        <p:blipFill>
          <a:blip r:embed="rId1"/>
          <a:stretch/>
        </p:blipFill>
        <p:spPr>
          <a:xfrm>
            <a:off x="6156360" y="2492280"/>
            <a:ext cx="2857320" cy="2876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18716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atian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s many as are of the works of the law are under the curse; for it is written, “Cursed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everyone who does not continue in all things which are written in the book of the law, to do them.”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at no on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he law in the sight of God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evident, for 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ust shall live by faith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t the law is not of faith, but “the man who does them shall live by the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 has redeemed us from the curse of the law, having become a curse for us (for it is written, “Cursed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everyone who hangs on a tree”),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the blessing of Abraham might come upon the Gentiles in Christ Jesus, that we might receive the promise of the Spirit through fa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32000" cy="1778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23036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omans ch.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w the righteousness of God apart from the law is revealed, being witnessed by the Law and the Prophets,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righteousness of God, through faith in Jesus Christ, to all and on all who believe. For there is no difference;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have sinned and fall short of the glory of God,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eely by His grace through the redemption that is in Christ Jesus,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God set forth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a propitiation by His blood, through faith, to demonstrate His righteousness, because in His forbearance God had passed over the sins that were previously committed,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monstrate at the present time His righteousness, that He might be just an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if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one who has faith in Jes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Image result for justified by the law"/>
          <p:cNvPicPr/>
          <p:nvPr/>
        </p:nvPicPr>
        <p:blipFill>
          <a:blip r:embed="rId1"/>
          <a:stretch/>
        </p:blipFill>
        <p:spPr>
          <a:xfrm>
            <a:off x="250920" y="189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Image result for justified by the law"/>
          <p:cNvPicPr/>
          <p:nvPr/>
        </p:nvPicPr>
        <p:blipFill>
          <a:blip r:embed="rId2"/>
          <a:stretch/>
        </p:blipFill>
        <p:spPr>
          <a:xfrm>
            <a:off x="7524720" y="260280"/>
            <a:ext cx="137304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mans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f you confess with your mouth the Lord Jesus and believe in your heart that God has raised Him from the dead, you will be saved.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ith the heart one believes unto righteousness, and with the mouth confession is made unto salvation.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Scripture says, “Whoever believes on Him will not be put to shame.”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re is no distinction between Jew and Greek, for the same Lord over all is rich to all who call upon Him.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 “whoever calls on the name of the Lord shall be saved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Image result for confess with your mouth"/>
          <p:cNvPicPr/>
          <p:nvPr/>
        </p:nvPicPr>
        <p:blipFill>
          <a:blip r:embed="rId1"/>
          <a:stretch/>
        </p:blipFill>
        <p:spPr>
          <a:xfrm>
            <a:off x="6588000" y="333360"/>
            <a:ext cx="2248200" cy="2247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588000" y="3284640"/>
            <a:ext cx="21942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Joh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ittle children, these things I write to you, so that you may not sin. And if anyone sins, we have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o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Father, Jesus Christ the righteous.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e Himself is the propitiation for our sins, and not for ours only but also for the whol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Image result for apostle john"/>
          <p:cNvPicPr/>
          <p:nvPr/>
        </p:nvPicPr>
        <p:blipFill>
          <a:blip r:embed="rId1"/>
          <a:stretch/>
        </p:blipFill>
        <p:spPr>
          <a:xfrm>
            <a:off x="395280" y="5229360"/>
            <a:ext cx="1943280" cy="1442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Image result for apostle john"/>
          <p:cNvPicPr/>
          <p:nvPr/>
        </p:nvPicPr>
        <p:blipFill>
          <a:blip r:embed="rId2"/>
          <a:stretch/>
        </p:blipFill>
        <p:spPr>
          <a:xfrm>
            <a:off x="7164360" y="260280"/>
            <a:ext cx="1303200" cy="1368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Image result for apostle john"/>
          <p:cNvPicPr/>
          <p:nvPr/>
        </p:nvPicPr>
        <p:blipFill>
          <a:blip r:embed="rId3"/>
          <a:stretch/>
        </p:blipFill>
        <p:spPr>
          <a:xfrm>
            <a:off x="755640" y="189000"/>
            <a:ext cx="1655640" cy="124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Image result for apostle john"/>
          <p:cNvPicPr/>
          <p:nvPr/>
        </p:nvPicPr>
        <p:blipFill>
          <a:blip r:embed="rId4"/>
          <a:stretch/>
        </p:blipFill>
        <p:spPr>
          <a:xfrm>
            <a:off x="6804000" y="5157720"/>
            <a:ext cx="1873440" cy="1403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Image result for apostle john"/>
          <p:cNvPicPr/>
          <p:nvPr/>
        </p:nvPicPr>
        <p:blipFill>
          <a:blip r:embed="rId5"/>
          <a:stretch/>
        </p:blipFill>
        <p:spPr>
          <a:xfrm>
            <a:off x="3419640" y="515772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scariest verse in the Bibl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tth.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7640" y="155736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Not everyone who says to Me, ‘Lord, Lord,’ shall enter the kingdom of heaven, but he who does the will of My Father in heaven.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will say to Me in that day, ‘Lord, Lord, have we not prophesied in Your name, cast out demons in Your name, and done many wonders in Your name?’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n I will declare to them, ‘I never knew you; depart from Me, you who practice lawlessness!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48360" y="4508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Image result for matthew 7:21"/>
          <p:cNvPicPr/>
          <p:nvPr/>
        </p:nvPicPr>
        <p:blipFill>
          <a:blip r:embed="rId2"/>
          <a:stretch/>
        </p:blipFill>
        <p:spPr>
          <a:xfrm>
            <a:off x="7164360" y="1484280"/>
            <a:ext cx="1724040" cy="2449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635280" y="5516640"/>
            <a:ext cx="216072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New Heart and A New Spir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 away from you all the transgressions which you have committed, and get yourselves a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and a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spirit. For why should you die, O house of Israel?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zekiel 18: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if anyone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in Christ,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 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a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old things have passed away; behold, all things have become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Cor.5: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Image result for a new creature"/>
          <p:cNvPicPr/>
          <p:nvPr/>
        </p:nvPicPr>
        <p:blipFill>
          <a:blip r:embed="rId1"/>
          <a:stretch/>
        </p:blipFill>
        <p:spPr>
          <a:xfrm>
            <a:off x="6948360" y="5229360"/>
            <a:ext cx="180036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od wor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ut your own salvation with fear and trembling;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 for it is God who works in you both to will and to do for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good plea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 Do all things without complaining and disput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you may become blameless and harmless, children of God without fault in the midst of a crooked and perverse generation, among whom you shine as lights in the wor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Image result for justified by the law"/>
          <p:cNvPicPr/>
          <p:nvPr/>
        </p:nvPicPr>
        <p:blipFill>
          <a:blip r:embed="rId1"/>
          <a:stretch/>
        </p:blipFill>
        <p:spPr>
          <a:xfrm>
            <a:off x="468360" y="18900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Image result for justified by the law"/>
          <p:cNvPicPr/>
          <p:nvPr/>
        </p:nvPicPr>
        <p:blipFill>
          <a:blip r:embed="rId2"/>
          <a:stretch/>
        </p:blipFill>
        <p:spPr>
          <a:xfrm>
            <a:off x="6588000" y="260280"/>
            <a:ext cx="23050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Image result for his faith was credited to him as righteousness"/>
          <p:cNvPicPr/>
          <p:nvPr/>
        </p:nvPicPr>
        <p:blipFill>
          <a:blip r:embed="rId1"/>
          <a:stretch/>
        </p:blipFill>
        <p:spPr>
          <a:xfrm>
            <a:off x="468360" y="692280"/>
            <a:ext cx="828036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ustify: δικαιό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kaioó: to show to be righteous, declare righte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ransliteration: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kaioó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onetic Spelling: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dik-ah-yo'-o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ort Definition: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make righteous, defend the cause of, justify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: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make righteous, defend the cause of, plead for the righteousness (innocence) of, acquit, justify; hence: I regard as righteo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 people think on how to get to heav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Image result for the girl who painted heaven"/>
          <p:cNvPicPr/>
          <p:nvPr/>
        </p:nvPicPr>
        <p:blipFill>
          <a:blip r:embed="rId1"/>
          <a:stretch/>
        </p:blipFill>
        <p:spPr>
          <a:xfrm>
            <a:off x="395280" y="1700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Image result for the girl who painted heaven"/>
          <p:cNvPicPr/>
          <p:nvPr/>
        </p:nvPicPr>
        <p:blipFill>
          <a:blip r:embed="rId2"/>
          <a:stretch/>
        </p:blipFill>
        <p:spPr>
          <a:xfrm>
            <a:off x="5292720" y="3789360"/>
            <a:ext cx="2951280" cy="2951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Related image"/>
          <p:cNvPicPr/>
          <p:nvPr/>
        </p:nvPicPr>
        <p:blipFill>
          <a:blip r:embed="rId3"/>
          <a:stretch/>
        </p:blipFill>
        <p:spPr>
          <a:xfrm>
            <a:off x="6588000" y="1268280"/>
            <a:ext cx="2248200" cy="2847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84360" y="5229360"/>
            <a:ext cx="38876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us said to him, “I am the way, the truth, and the life. No one comes to the Father except through 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Image result for jesus the way"/>
          <p:cNvPicPr/>
          <p:nvPr/>
        </p:nvPicPr>
        <p:blipFill>
          <a:blip r:embed="rId1"/>
          <a:stretch/>
        </p:blipFill>
        <p:spPr>
          <a:xfrm>
            <a:off x="2843280" y="371628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ustification – Jesus did it a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eirdest thing about Christianity – getting right with G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*****God does it all!!!*****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 relig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 does it all to please Go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ddhis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duis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la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imis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cultis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roasterianis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ganis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tholicis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isted Christian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les and Regulation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larism, Theism, Postmoder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32720" y="3213000"/>
            <a:ext cx="1873080" cy="1784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451640" y="5013360"/>
            <a:ext cx="1181160" cy="1533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564000" y="350028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651640" y="5157720"/>
            <a:ext cx="1382400" cy="1582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716360" y="1989000"/>
            <a:ext cx="1657440" cy="1575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Image result for zoroastrianism"/>
          <p:cNvPicPr/>
          <p:nvPr/>
        </p:nvPicPr>
        <p:blipFill>
          <a:blip r:embed="rId6"/>
          <a:stretch/>
        </p:blipFill>
        <p:spPr>
          <a:xfrm>
            <a:off x="6588000" y="1989000"/>
            <a:ext cx="2124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l Religions focus on 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 needs to do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 has to deny him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 has to atone for his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 has to p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 has to make re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Image result for religious man"/>
          <p:cNvPicPr/>
          <p:nvPr/>
        </p:nvPicPr>
        <p:blipFill>
          <a:blip r:embed="rId1"/>
          <a:stretch/>
        </p:blipFill>
        <p:spPr>
          <a:xfrm>
            <a:off x="5724360" y="4581360"/>
            <a:ext cx="3024360" cy="1990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659640" y="1413000"/>
            <a:ext cx="1992240" cy="2879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908000" y="4724280"/>
            <a:ext cx="25927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 how do we get to Heav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razen sn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s 21:6-9 (NKJ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 Lord sent fiery serpents among the people, and they bit the people; and many of the people of Israel d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 the people came to Moses, and said, “We have sinned, for we have spoken against the Lord and against you; pray to the Lord that He take away the serpents from us.” So Moses prayed for the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 Lord said to Moses, “Make a fiery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pent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and set it on a pole; and it shall be that everyone who is bitten, when he looks at it, shall live.”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Moses made a bronze serpent, and put it on a pole; and so it was, if a serpent had bitten anyone, when he looked at the bronze serpent, he li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Image result for brazen serpent"/>
          <p:cNvPicPr/>
          <p:nvPr/>
        </p:nvPicPr>
        <p:blipFill>
          <a:blip r:embed="rId1"/>
          <a:stretch/>
        </p:blipFill>
        <p:spPr>
          <a:xfrm>
            <a:off x="5219640" y="1844640"/>
            <a:ext cx="35481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esus and the Brazen Serp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Chapter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ne has ascended to heaven but He who came down from heaven,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at i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the Son of Man who is in heaven.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 And as Moses lifted up the serpent in the wilderness, even so must the Son of Man be lifted up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whoever believes in Him should not perish but have eternal life.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God so loved the world that He gave His only begotten Son, that whoever believes in Him should not perish but have everlasting life.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God did not send His Son into the world to condemn the world, but that the world through Him might be sa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Image result for the girl who painted heaven"/>
          <p:cNvPicPr/>
          <p:nvPr/>
        </p:nvPicPr>
        <p:blipFill>
          <a:blip r:embed="rId1"/>
          <a:stretch/>
        </p:blipFill>
        <p:spPr>
          <a:xfrm>
            <a:off x="2340000" y="5589720"/>
            <a:ext cx="8269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raham the friend of G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Image result for abraham the friend of god"/>
          <p:cNvPicPr/>
          <p:nvPr/>
        </p:nvPicPr>
        <p:blipFill>
          <a:blip r:embed="rId1"/>
          <a:stretch/>
        </p:blipFill>
        <p:spPr>
          <a:xfrm>
            <a:off x="755640" y="1413000"/>
            <a:ext cx="792000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1T22:25:43Z</dcterms:created>
  <dc:creator>Mike PB New</dc:creator>
  <dc:description/>
  <dc:language>en-US</dc:language>
  <cp:lastModifiedBy>Mike PB New</cp:lastModifiedBy>
  <dcterms:modified xsi:type="dcterms:W3CDTF">2017-03-02T21:53:28Z</dcterms:modified>
  <cp:revision>10</cp:revision>
  <dc:subject/>
  <dc:title>Justification</dc:title>
</cp:coreProperties>
</file>