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F2F-8EA8-4C5A-ADC3-CCEAF0B1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DEB-C1C9-4745-84A5-DB03402F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07B-F5BC-4751-8832-42BB388A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864-E289-47AA-A628-4B206E1B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63F-3F1A-4BD3-89A5-83347A0E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E2C-0BB2-4C29-8EDC-22A71948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75C-9A4E-42CB-A987-13F4CCE9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67B-AB68-4D7E-93D7-2B6BCEA8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431-7A9C-4E8B-9779-E3FD0090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DDF-9A24-45A7-9DE2-462BA27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E85-398F-4696-A440-8AF3613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2DC-66F9-4DBA-AD9A-33F34E6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7C80-91D6-4FFB-9BC9-2FE4CD4E4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o.uk/search?sa=X&amp;espv=2&amp;biw=1600&amp;bih=770&amp;q=define+lifeline&amp;forcedict=lifeline&amp;ved=0ahUKEwi0kYLn3_TRAhUsI8AKHS4jBYYQ_SoIHzAA" TargetMode="External"/><Relationship Id="rId2" Type="http://schemas.openxmlformats.org/officeDocument/2006/relationships/hyperlink" Target="https://www.google.co.uk/search?sa=X&amp;espv=2&amp;biw=1600&amp;bih=770&amp;q=define+preservation&amp;forcedict=preservation&amp;ved=0ahUKEwi0kYLn3_TRAhUsI8AKHS4jBYYQ_SoIIDAA" TargetMode="External"/><Relationship Id="rId3" Type="http://schemas.openxmlformats.org/officeDocument/2006/relationships/hyperlink" Target="https://www.google.co.uk/search?sa=X&amp;espv=2&amp;biw=1600&amp;bih=770&amp;q=define+conservation&amp;forcedict=conservation&amp;ved=0ahUKEwi0kYLn3_TRAhUsI8AKHS4jBYYQ_SoIITAA" TargetMode="External"/><Relationship Id="rId4" Type="http://schemas.openxmlformats.org/officeDocument/2006/relationships/hyperlink" Target="https://www.google.co.uk/search?sa=X&amp;espv=2&amp;biw=1600&amp;bih=770&amp;q=define+redemption&amp;forcedict=redemption&amp;ved=0ahUKEwi0kYLn3_TRAhUsI8AKHS4jBYYQ_SoIJjAA" TargetMode="External"/><Relationship Id="rId5" Type="http://schemas.openxmlformats.org/officeDocument/2006/relationships/hyperlink" Target="https://www.google.co.uk/search?sa=X&amp;espv=2&amp;biw=1600&amp;bih=770&amp;q=define+deliverance&amp;forcedict=deliverance&amp;ved=0ahUKEwi0kYLn3_TRAhUsI8AKHS4jBYYQ_SoIJzAA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Salvation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istian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752920" cy="140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724120" cy="140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4608720" cy="296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651640" y="4581360"/>
            <a:ext cx="3313080" cy="199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284720" y="4762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2205000"/>
            <a:ext cx="180000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55640" y="2421000"/>
            <a:ext cx="914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l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6 Entries in the whole Bible (NKJ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2 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4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יֵ֫שַׁ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 jesha (deliverance, salvation, rescue, welfare, safe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σωτηρία – soteria (deliverance, salv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ble conce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answered them, “Most assuredly, I say to you, whoever commits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is a slave of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Joh. 8: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 if the Son makes you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you shall be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indeed. Joh.8: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ive knowledge of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lv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to His people By the remission of their sins, Luke 1: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 is there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lv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in any other, for there is no other name under heaven given among men by which we must be saved.” Acts 4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alvation now in and through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nal salvation when this is all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ginning of our Christian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vation from the power of sin, the clutches the legal stranglehold of the devil ove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people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 of Christiane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torical context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ostmodernist min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Image result for salvation"/>
          <p:cNvPicPr/>
          <p:nvPr/>
        </p:nvPicPr>
        <p:blipFill>
          <a:blip r:embed="rId1"/>
          <a:stretch/>
        </p:blipFill>
        <p:spPr>
          <a:xfrm>
            <a:off x="2556000" y="4005360"/>
            <a:ext cx="5616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a moment to think what Salvation actually mea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l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rvation or deliverance from harm, ruin, or l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they try to sell it to us as economic salv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ynonyms:</a:t>
            </a: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fel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serv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serv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 means of escape"she clung to that conviction, knowing it was her salvatio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iverance from sin and its consequences, believed by Christians to be brought about by faith in Chr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the Christian gospel of salvation for all manki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ynonyms:</a:t>
            </a: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demp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livera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 saving, help, reclamation"we are here to bring you to salvation by way of repentanc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lar Mindset in 2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of sin does no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is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verage is good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th is relative – no absolute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is only sin if you feel guil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 standards are defined by society or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rality is ok as long as no one gets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838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t Modern Mo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ship of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r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acceptance of every 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in morality “SIN” old fashioned and ir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we need to get saved from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Image result for post modernism"/>
          <p:cNvPicPr/>
          <p:nvPr/>
        </p:nvPicPr>
        <p:blipFill>
          <a:blip r:embed="rId1"/>
          <a:stretch/>
        </p:blipFill>
        <p:spPr>
          <a:xfrm>
            <a:off x="4643280" y="1700280"/>
            <a:ext cx="432144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 Fas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the rules of Political Correctness and you will s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 you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ccused and sued for hate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 cens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Image result for post modernism"/>
          <p:cNvPicPr/>
          <p:nvPr/>
        </p:nvPicPr>
        <p:blipFill>
          <a:blip r:embed="rId1"/>
          <a:stretch/>
        </p:blipFill>
        <p:spPr>
          <a:xfrm>
            <a:off x="6012000" y="4005360"/>
            <a:ext cx="2735280" cy="2573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4653000"/>
            <a:ext cx="561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Biblic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moral code given in the B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Commandments – guideline for all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 code given throughout OT and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has fallen away from the Moral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Sin or failing followed by a separation between man and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lt before God we are away from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ligions suggest a way to regain the lost connection with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oblem - 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is separate from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ere is a God but we are not with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do something to repair the broke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seem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God has done something to repair our broke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ecame man and suffered the punishment we de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VE, RIGHTEOUS, 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43640" y="1844640"/>
            <a:ext cx="25336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vation through Faith in Jesus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itiful state is that we cannot rescue 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imited in what w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God provided a way for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came one of us – took ou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shment o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93080" y="4221000"/>
            <a:ext cx="1628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20:09:15Z</dcterms:created>
  <dc:creator>Mike PB New</dc:creator>
  <dc:description/>
  <dc:language>en-US</dc:language>
  <cp:lastModifiedBy>Mike PB New</cp:lastModifiedBy>
  <dcterms:modified xsi:type="dcterms:W3CDTF">2017-02-03T23:10:44Z</dcterms:modified>
  <cp:revision>2</cp:revision>
  <dc:subject/>
  <dc:title>What is Salvation? Christian Basics</dc:title>
</cp:coreProperties>
</file>