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71E-197A-4C72-9C4E-638775A4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A60-DDDE-4514-A4E8-CFB4D057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50F-A3A9-46C3-8A7F-6416BAA2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812-0AA3-48BE-8A70-68D650CC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FB0-1D45-4A42-9CDC-4C3B624E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338-7763-4A91-A31F-0D2662D7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4BC-8979-464A-8137-6F5CD587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5C9-C662-4987-8DBA-DE9DF1FA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250-7ED4-4F60-BC94-361041CF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F1E-CFD1-4050-9D7C-A6478ACB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814-FB54-4E96-9CAC-23587F3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189-9B27-4281-92CF-E20890B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1082-9B1F-4FBD-B5E0-2EF94678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biblegateway.com/passage/?search=Romans+3&amp;version=NKJV#fen-NKJV-28014h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3141360"/>
            <a:ext cx="5325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Faith?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 Basics Part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2953080" cy="2590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2716200" cy="1387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303280" cy="161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4000" y="4681440"/>
            <a:ext cx="3095640" cy="197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32360" y="5013360"/>
            <a:ext cx="3305160" cy="1533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08000" y="2205000"/>
            <a:ext cx="3024000" cy="205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mage result for mustard seed"/>
          <p:cNvPicPr/>
          <p:nvPr/>
        </p:nvPicPr>
        <p:blipFill>
          <a:blip r:embed="rId7"/>
          <a:stretch/>
        </p:blipFill>
        <p:spPr>
          <a:xfrm>
            <a:off x="3203640" y="1773360"/>
            <a:ext cx="18730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th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ah – building the 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raham – Is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assy Snake in the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8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one will say, “You have faith, and I have works.” Show me your faith without your works, and I will show you my faith by my works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me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Image result for Noah ark"/>
          <p:cNvPicPr/>
          <p:nvPr/>
        </p:nvPicPr>
        <p:blipFill>
          <a:blip r:embed="rId1"/>
          <a:stretch/>
        </p:blipFill>
        <p:spPr>
          <a:xfrm>
            <a:off x="5435640" y="1197000"/>
            <a:ext cx="3240000" cy="2162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Hero’s of Fai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brews ch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aith 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ings hoped for,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ings not seen.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y it the elders obtained a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testi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ith w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 worlds were framed by the word of God, so that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ngs which are 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not made of things which are vi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“Faith” Verses in Ro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mans 1:17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n it the righteousness of God is revealed from faith to faith; as it is written, “The just shall live by fai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mans 3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1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now the righteousness of God apart from the law is revealed, being witnessed by the Law and the Prophets,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2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n the righteousness of God, through faith in Jesus Christ, to all and on all[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 who believe. For there is no difference;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ll have sinned and fall short of the glory of God,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4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justified freely by His grace through the redemption that is in Christ Jesus,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5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m God set forth 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a propitiation by His blood, through faith, to demonstrate His righteousness, because in His forbearance God had passed over the sins that were previously committed,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6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monstrate at the present time His righteousness, that He might be just and the justifier of the one who has faith in Jes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th – 1. Cor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y speech and my preaching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not with persuasive words of human wisdom, but in demonstration of the Spirit and of power,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your faith should not be in the wisdom of men but in the power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we speak wisdom among those who are mature, yet not the wisdom of this age, nor of the rulers of this age, who are coming to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th – 2. C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e walk by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t by sight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Cor. 5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yourselves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whether you are in the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est yourselves. Do you not know yourselves, that Jesus Christ is in you?—unless indeed you are disqualifie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Cor.13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 result for walk by faith not by sight"/>
          <p:cNvPicPr/>
          <p:nvPr/>
        </p:nvPicPr>
        <p:blipFill>
          <a:blip r:embed="rId1"/>
          <a:stretch/>
        </p:blipFill>
        <p:spPr>
          <a:xfrm>
            <a:off x="5867280" y="4724280"/>
            <a:ext cx="2592360" cy="193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Image result for motorbike into dark tunnel"/>
          <p:cNvPicPr/>
          <p:nvPr/>
        </p:nvPicPr>
        <p:blipFill>
          <a:blip r:embed="rId2"/>
          <a:stretch/>
        </p:blipFill>
        <p:spPr>
          <a:xfrm>
            <a:off x="1835280" y="4941720"/>
            <a:ext cx="309564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dio Verse: Romans 10: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n faith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by hearing, and hearing by the word of G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Image result for hearing the word"/>
          <p:cNvPicPr/>
          <p:nvPr/>
        </p:nvPicPr>
        <p:blipFill>
          <a:blip r:embed="rId1"/>
          <a:stretch/>
        </p:blipFill>
        <p:spPr>
          <a:xfrm>
            <a:off x="4211640" y="2852640"/>
            <a:ext cx="4176720" cy="375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456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th Less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’s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and understanding strengthen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th comes through hearing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thfulness, trust &gt;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ing in the will of God &gt; move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th and actions go 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Image result for co exist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th like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stard S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 result for mustard seed plant"/>
          <p:cNvPicPr/>
          <p:nvPr/>
        </p:nvPicPr>
        <p:blipFill>
          <a:blip r:embed="rId1"/>
          <a:stretch/>
        </p:blipFill>
        <p:spPr>
          <a:xfrm>
            <a:off x="179280" y="2349360"/>
            <a:ext cx="621036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 result for mustard seed plant"/>
          <p:cNvPicPr/>
          <p:nvPr/>
        </p:nvPicPr>
        <p:blipFill>
          <a:blip r:embed="rId2"/>
          <a:stretch/>
        </p:blipFill>
        <p:spPr>
          <a:xfrm>
            <a:off x="4788000" y="404640"/>
            <a:ext cx="37447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th - Heb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iginal Word: 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אֱמוּנָה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munah: firmness, steadfastness, fide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onetic Spelling: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m-oo-naw'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rt Definition: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thful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232000" cy="164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81010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th – Greek 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riginal Greek Word: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πίστις, εως, ἡ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istis: faith, faith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honetic Spelling: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is'-tis)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finition: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th, belief, trust, confidence; fidelity, faithful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16360" y="5445000"/>
            <a:ext cx="3959280" cy="129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2371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th – Secular 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ɪθ/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complete trust or confidence in someone or 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this restores one's faith in politician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ynonym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st, belief, confidence, conviction, credence, reliance, dependence; 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strong belief in the doctrines of a religion, based on spiritual conviction rather than p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bereaved people who have shown supreme fait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ynonym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igion, church, sect, denomination, persuasion, religious persuasion, religious belief, belief, code of belief, ideology, creed, teaching, dogma, doctrine "she gave her life for her fait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020000" y="1341360"/>
            <a:ext cx="15526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World and Fa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ing in something against all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off your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i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ind faith in science “It’s scientif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gious Fa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s – against all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of Faith movement – name it clai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versus Bette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age result for co exist in hell"/>
          <p:cNvPicPr/>
          <p:nvPr/>
        </p:nvPicPr>
        <p:blipFill>
          <a:blip r:embed="rId1"/>
          <a:stretch/>
        </p:blipFill>
        <p:spPr>
          <a:xfrm>
            <a:off x="4643280" y="3284640"/>
            <a:ext cx="3889440" cy="20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259236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ryday Fa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money – bits of paper with no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electricity, battery, light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rules – trust that others obe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do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ue Fa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ill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to the mountain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ard Seed Faith &gt; as a result of walking with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pray and stuff happens ( story of Bible Belt America – heart con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176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21:59:51Z</dcterms:created>
  <dc:creator>Mike PB New</dc:creator>
  <dc:description/>
  <dc:language>en-US</dc:language>
  <cp:lastModifiedBy>Mike PB New</cp:lastModifiedBy>
  <dcterms:modified xsi:type="dcterms:W3CDTF">2017-02-21T00:18:04Z</dcterms:modified>
  <cp:revision>3</cp:revision>
  <dc:subject/>
  <dc:title>What is Faith? Christian Basics Part 8</dc:title>
</cp:coreProperties>
</file>